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AB9-BB2C-4445-9A40-384BC57A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0B8-1FC4-412D-BF49-0F21C0FE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7CC-735B-4E64-8AC9-9EB698DF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787-B600-40D5-90F5-C19C558E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1AD4-4117-40B9-9CF6-09935AC1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61CB-CA5E-4770-A0AF-3A4549CD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5123-BC08-4DB3-93DA-C89B2535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BBAB-2804-473F-9726-CC328B87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D24D-460F-4B74-89AF-6BD352A4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3D91-C8E0-429A-BC87-02BF98A4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D77F-1B3D-43F6-88B5-D1A2E34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63E-951A-44CA-A948-9E0DAD70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A4A0-0CDC-450A-A356-9EB475AB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4094-563A-4510-B98D-143E4F4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2A6C-FD91-4CFB-B71E-85E2A557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E518-FADE-495E-A8AD-38728F21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1F74-F258-44C2-A7A4-ABB5EE8D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E7F-58A9-4BDC-A76B-18599672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EE3-5514-4669-A8C9-95132F14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BC9-7FDE-4157-B52C-01BD4765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D25-66A4-4D05-8397-0E406CE4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EFC-8A71-4AED-9A76-1F6A874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697-061E-499A-9E39-947FF5F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842-1605-4095-BDBC-8EB1DE7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505320" y="0"/>
            <a:ext cx="5638680" cy="813960"/>
            <a:chOff x="3505320" y="0"/>
            <a:chExt cx="5638680" cy="813960"/>
          </a:xfrm>
        </p:grpSpPr>
        <p:grpSp>
          <p:nvGrpSpPr>
            <p:cNvPr id="1" name=""/>
            <p:cNvGrpSpPr/>
            <p:nvPr/>
          </p:nvGrpSpPr>
          <p:grpSpPr>
            <a:xfrm>
              <a:off x="3505320" y="0"/>
              <a:ext cx="5638320" cy="47880"/>
              <a:chOff x="3505320" y="0"/>
              <a:chExt cx="5638320" cy="47880"/>
            </a:xfrm>
          </p:grpSpPr>
          <p:sp>
            <p:nvSpPr>
              <p:cNvPr id="2" name=""/>
              <p:cNvSpPr/>
              <p:nvPr/>
            </p:nvSpPr>
            <p:spPr>
              <a:xfrm>
                <a:off x="6546240" y="0"/>
                <a:ext cx="2597400" cy="47880"/>
              </a:xfrm>
              <a:prstGeom prst="rect">
                <a:avLst/>
              </a:prstGeom>
              <a:gradFill rotWithShape="0">
                <a:gsLst>
                  <a:gs pos="0">
                    <a:srgbClr val="6702fc"/>
                  </a:gs>
                  <a:gs pos="100000">
                    <a:srgbClr val="1d92f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505320" y="0"/>
                <a:ext cx="3040920" cy="47880"/>
              </a:xfrm>
              <a:prstGeom prst="rect">
                <a:avLst/>
              </a:prstGeom>
              <a:gradFill rotWithShape="0">
                <a:gsLst>
                  <a:gs pos="0">
                    <a:srgbClr val="1d92fd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7187760" y="95400"/>
              <a:ext cx="19558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98880" y="95400"/>
              <a:ext cx="2288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88320" y="191520"/>
              <a:ext cx="12553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19520" y="191520"/>
              <a:ext cx="14688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68480" y="287280"/>
              <a:ext cx="875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243200" y="287280"/>
              <a:ext cx="1025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18400" y="383040"/>
              <a:ext cx="52524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03520" y="383040"/>
              <a:ext cx="6148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52040" y="479160"/>
              <a:ext cx="2916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10040" y="479160"/>
              <a:ext cx="34164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97480" y="574920"/>
              <a:ext cx="1461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7200" y="574920"/>
              <a:ext cx="1702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56880" y="670680"/>
              <a:ext cx="867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953920" y="670680"/>
              <a:ext cx="10296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37840" y="47880"/>
              <a:ext cx="2305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138560" y="47880"/>
              <a:ext cx="269928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7080" y="143640"/>
              <a:ext cx="154692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85920" y="143640"/>
              <a:ext cx="18108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093160" y="239400"/>
              <a:ext cx="1050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63040" y="239400"/>
              <a:ext cx="12301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502480" y="335160"/>
              <a:ext cx="64116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750080" y="335160"/>
              <a:ext cx="7524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734680" y="430920"/>
              <a:ext cx="408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56960" y="430920"/>
              <a:ext cx="47772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39160" y="526680"/>
              <a:ext cx="20448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700120" y="526680"/>
              <a:ext cx="23868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027720" y="622800"/>
              <a:ext cx="11592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890200" y="622800"/>
              <a:ext cx="13716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9085680" y="718560"/>
              <a:ext cx="57960" cy="4788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017280" y="718560"/>
              <a:ext cx="68400" cy="4788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114840" y="766440"/>
              <a:ext cx="28800" cy="47520"/>
            </a:xfrm>
            <a:prstGeom prst="rect">
              <a:avLst/>
            </a:prstGeom>
            <a:gradFill rotWithShape="0">
              <a:gsLst>
                <a:gs pos="0">
                  <a:srgbClr val="6702fc"/>
                </a:gs>
                <a:gs pos="100000">
                  <a:srgbClr val="1d92f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080280" y="766440"/>
              <a:ext cx="34200" cy="47520"/>
            </a:xfrm>
            <a:prstGeom prst="rect">
              <a:avLst/>
            </a:prstGeom>
            <a:gradFill rotWithShape="0">
              <a:gsLst>
                <a:gs pos="0">
                  <a:srgbClr val="1d92fd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" name=""/>
          <p:cNvSpPr/>
          <p:nvPr/>
        </p:nvSpPr>
        <p:spPr>
          <a:xfrm>
            <a:off x="-4114800" y="1371600"/>
            <a:ext cx="8229240" cy="53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6A53-960E-4D54-AFB1-4CD47802E678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7794720" y="2590920"/>
            <a:ext cx="1554444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2" y="0"/>
                </a:moveTo>
                <a:arcTo wR="10800" hR="10800" stAng="-5396203" swAng="10787241"/>
                <a:lnTo>
                  <a:pt x="10800" y="10800"/>
                </a:lnTo>
                <a:close/>
              </a:path>
              <a:path fill="none" w="21600" h="21600">
                <a:moveTo>
                  <a:pt x="10812" y="0"/>
                </a:moveTo>
                <a:arcTo wR="10800" hR="10800" stAng="-5396203" swAng="10787241"/>
              </a:path>
            </a:pathLst>
          </a:custGeom>
          <a:gradFill rotWithShape="0">
            <a:gsLst>
              <a:gs pos="0">
                <a:srgbClr val="1d92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FE72-9CFF-4260-BD35-A69EC5BADC7E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286680" y="2286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57600" y="1981080"/>
            <a:ext cx="1895400" cy="2505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 Narrow"/>
              </a:rPr>
              <a:t>“</a:t>
            </a:r>
            <a:r>
              <a:rPr b="1" i="1" lang="en-US" sz="5400" spc="-1" strike="noStrike">
                <a:solidFill>
                  <a:srgbClr val="ffcc00"/>
                </a:solidFill>
                <a:latin typeface="Arial Narrow"/>
              </a:rPr>
              <a:t>How Long, O Lord?”</a:t>
            </a:r>
            <a:endParaRPr b="0" i="1" lang="en-US" sz="5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13, Lesson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brews 7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61-6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76480"/>
            <a:ext cx="9144000" cy="568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752480" y="228600"/>
            <a:ext cx="575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pies of the Heavenl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1717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095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 Narrow"/>
              </a:rPr>
              <a:t>The Heavenly Thing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better sacrifice – 9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tter place to take the sacrifice 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equate enough to last forever -25-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ing in a great reward – 27-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1844 Cleansing of the Sanctuary"/>
          <p:cNvPicPr/>
          <p:nvPr/>
        </p:nvPicPr>
        <p:blipFill>
          <a:blip r:embed="rId3"/>
          <a:stretch/>
        </p:blipFill>
        <p:spPr>
          <a:xfrm>
            <a:off x="7391520" y="4762440"/>
            <a:ext cx="1752480" cy="2095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4419720"/>
            <a:ext cx="151596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895480" y="4648320"/>
            <a:ext cx="3175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97120" cy="2590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Narrow"/>
              </a:rPr>
              <a:t>Hebrews</a:t>
            </a:r>
            <a:br>
              <a:rPr sz="3600"/>
            </a:br>
            <a:r>
              <a:rPr b="1" i="1" lang="en-US" sz="3600" spc="-1" strike="noStrike">
                <a:solidFill>
                  <a:srgbClr val="ffcc00"/>
                </a:solidFill>
                <a:latin typeface="Arial Narrow"/>
              </a:rPr>
              <a:t>Three Major Sections</a:t>
            </a:r>
            <a:endParaRPr b="0" i="1" lang="en-US" sz="36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ristianity H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Better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Apostl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: Jesus Christ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(1:1-2:1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13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ristianity H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Better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High Pries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: Jesus Christ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(3:1-10:18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13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ristianity Has A Worthy Expectati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Sustaining Faith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(10:19-13:2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43000" y="152280"/>
            <a:ext cx="66675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BRIEF OUTLINE OF TH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OOK OF HEBREW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509840"/>
            <a:ext cx="792504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RIST SUPERIOR TO THE THINGS OF THE OLD TESTA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. TO THE ANGELS C#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. TO MOSES 3:1-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. REST 3:7-4: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. TO THE LEVITICAL PRIESTHOOD 4:14-7: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. COVENANT 8:1-9: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. SACRIFICES 9:23-10: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HORTATION TO REMAIN STEADFAST TO CHR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. REMEMBER THE PUNISHMENT THAT COMES TO THOSE WHO DILIBERATELY SIN 10:19-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. REMEMBER THE OLD TESTAMENT WITNESSES C#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. RUN THE CHRISTIAN RACE 12: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. ENDURE THE CHASTENING OF THE LORD 12:3-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. KEEP YOUR FOCUS ON THE GOAL OF ETERNAL REWARD 12:12-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CLUSION C!#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2819520"/>
            <a:ext cx="5715000" cy="6094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152280"/>
            <a:ext cx="66675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BRIEF OUTLINE OF TH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OOK OF HEBREW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509840"/>
            <a:ext cx="792504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RIST SUPERIOR TO THE THINGS OF THE OLD TESTA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. TO THE ANGELS C#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. TO MOSES 3:1-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. REST 3:7-4: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 TO THE LEVITICAL PRIESTHOOD 4:14-7: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. COVENANT 8:1-9: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. SACRIFICES 9:23-10: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HORTATION TO REMAIN STEADFAST TO CHR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. REMEMBER THE PUNISHMENT THAT COMES TO THOSE WHO DILIBERATELY SIN 10:19-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. REMEMBER THE OLD TESTAMENT WITNESSES C#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. RUN THE CHRISTIAN RACE 12:1-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. ENDURE THE CHASTENING OF THE LORD 12:3-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. KEEP YOUR FOCUS ON THE GOAL OF ETERNAL REWARD 12:12-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CLUSION C!#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31080" y="0"/>
            <a:ext cx="2212920" cy="2757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The Priesthood of Jesu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order of Melchizedek -7:1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in that it was before Abra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in that it has no mention of an 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in that He was King AND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 in that he was king of righteousness AND Pe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er Than Abraham or Levi – 7:4-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31080" y="0"/>
            <a:ext cx="2212920" cy="2757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The Priesthood of Jesu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order of Melchizedek -7:1-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fficiency of Levitical Priesthood called for the new and better priest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Psalm 110 predicted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change of priesthood also requires change of Law – 7:11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’ priesthood is better because it is unchanging -7:15-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ives better hope, promises, and covenant (7:18-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is completely adequate – (7:20-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1080" y="0"/>
            <a:ext cx="2212920" cy="27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 Narrow"/>
              </a:rPr>
              <a:t>The Priesthood of Jesus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ltimate High Pries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ltimate taberna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Ultimate sacrifice –(8:1-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ting a better covenant with better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New Covenant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sied by Jeremiah 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ed that the first covenant needed to be changed (was faulty) – 8:7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y in that it was not designed to meet all the inward needs of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a means to an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growing “old” as Jeremiah said “ne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“old” thing becomes “obsolete” when the new comes into 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covenant would be adeq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428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Arial Narrow"/>
              </a:rPr>
              <a:t>The Old Tabernacle</a:t>
            </a:r>
            <a:endParaRPr b="0" i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etter Sanctuary (9:1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The Imperfection of the Earthly Sanctuary (9:1-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as symbolic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ointed to a better tabern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 The Perfection of the Heavenly Sanctuary (9:11-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etter Sacrifice (9:13–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The Necessity of Shed Blood (9:13-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702f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 The Purification of the Heavenly Sanctuary (9:23-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22:03:37Z</dcterms:created>
  <dc:creator> Tab Vines</dc:creator>
  <dc:description/>
  <dc:language>en-US</dc:language>
  <cp:lastModifiedBy> Tab Vines</cp:lastModifiedBy>
  <dcterms:modified xsi:type="dcterms:W3CDTF">2007-08-18T00:09:05Z</dcterms:modified>
  <cp:revision>3</cp:revision>
  <dc:subject/>
  <dc:title>“How Long, O Lord?”</dc:title>
</cp:coreProperties>
</file>